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3.jpeg" ContentType="image/jpeg"/>
  <Override PartName="/ppt/media/image5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53A8-33F9-4B2F-98C8-191C60A2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C26-FC19-4A0A-ADE5-99A6BCB8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70A9-8F7C-4CC5-AFD6-AAA7F72F8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BDCA-9B87-416E-A262-FC1E9498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398-5708-4918-8497-A79789ACE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102-B5DD-4652-969D-3F767AB0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2761-F6B8-4F59-8740-04E21B0E8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5453-519C-48DA-93AB-AAC636869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67B8-6E98-485E-BFBC-B2F09313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7135-BC39-46C3-AE76-BCE419CD6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35FF-6016-4586-A3AE-81796A08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DC7-CE90-4A18-A11C-0C539ADE3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AF34-B2DB-4035-B487-EB666B8C06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tereopsis" TargetMode="External"/><Relationship Id="rId2" Type="http://schemas.openxmlformats.org/officeDocument/2006/relationships/hyperlink" Target="http://en.wikipedia.org/wiki/Thumb" TargetMode="External"/><Relationship Id="rId3" Type="http://schemas.openxmlformats.org/officeDocument/2006/relationships/hyperlink" Target="http://en.wikipedia.org/wiki/Prehensility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en.wikipedia.org/wiki/Sexual_dimorphis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rim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1335888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96720" y="-316080"/>
            <a:ext cx="4878360" cy="49690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348000" y="2205000"/>
            <a:ext cx="615312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-7381800" y="189000"/>
            <a:ext cx="15409800" cy="55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A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ive in Asia and Af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o ta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Vocalis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ocomotion styles signific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rachiation, knuckle walking, quadrapedalism, bipedalis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8685360" cy="4427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0" y="486900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ff"/>
                </a:solidFill>
                <a:latin typeface="Arial"/>
              </a:rPr>
              <a:t>Orangutan,           Bonobo,                   Gorilla,                Chi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4869000"/>
            <a:ext cx="822960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ocomo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ool user – solves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6153120" cy="443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47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Locomotion?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Problem solv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29163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5810040" cy="38768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Locomotion?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381132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Homin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umans and Human ancesto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iped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arge cranial capacity with respect to body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pposable thu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ther primate fe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levant Lifestyl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lour Vision 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rasping hands  developed to extreme 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orward facing eyes beca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arge cranial capacity (in relation to body size) beca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ependent infants – cultural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ocial groups – cultural evol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hare a Common Ancestor 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prosimians, monkeys, apes, hum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levant Lifestyl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lour Vi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Grasping h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orward facing e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Dependent infa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ocial group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arge cranial capacity in relation to body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Primates are a Mammalian grou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haracterised 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daptations for climbing trees although many different types of loco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mates are characterized by their large brains, relative to other mammal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increased reliance on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tereoscopi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vision at the expense of smell, the dominant sensory system in most mamma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st also have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opposable thumb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some have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ehensi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ail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ny species are 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exually dimorphic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which means males and females have different physical traits, including body mass, canine tooth size, and colo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rimates have slower rates of development than other similarly sized mammals, and reach maturity later but have longer lifespa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me species live in solitude, others live in male–female pairs, and others live in groups of up to hundreds of me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rosimi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xhibit some features similar to early ances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But have specialised to their own selection pressures so not the same as the early ances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97080" y="4697280"/>
            <a:ext cx="81723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Loris,bush baby, lem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936144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4437000"/>
            <a:ext cx="375444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Use scent to communic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ail for bal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5543640" cy="41576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465800" y="333360"/>
            <a:ext cx="4678200" cy="31878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4500720" y="3116160"/>
            <a:ext cx="464328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Monkeys and Ap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ew World Monk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ave developed a 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prehensile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t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ll live in trees (arboreal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Need colour vision and vocalisation to communica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Facial features impor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ange of locomotion sty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7174080" cy="47372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55640" y="4941720"/>
            <a:ext cx="72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6600"/>
                </a:solidFill>
                <a:latin typeface="Castellar"/>
              </a:rPr>
              <a:t>Golden Lion Tamar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072720" cy="62452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6948360" y="3500280"/>
            <a:ext cx="1771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l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411280" y="3429000"/>
            <a:ext cx="2105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quirrel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411280" y="404640"/>
            <a:ext cx="1924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Uakari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516720" y="2421000"/>
            <a:ext cx="233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amari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Old World Monkey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Live in the Old World (Africa and As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errestrial and arboreal dwell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prehensile tai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Still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lour vision and vocalisation to communica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Facial features import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ange of locomotion sty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02:39:13Z</dcterms:created>
  <dc:creator>debbie.m</dc:creator>
  <dc:description/>
  <dc:language>en-US</dc:language>
  <cp:lastModifiedBy>Ministry of Education</cp:lastModifiedBy>
  <dcterms:modified xsi:type="dcterms:W3CDTF">2011-05-07T03:28:28Z</dcterms:modified>
  <cp:revision>6</cp:revision>
  <dc:subject/>
  <dc:title>Primates</dc:title>
</cp:coreProperties>
</file>